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B023-05B6-4D16-8EB4-22BC81A19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0767-F523-40AC-8183-668E0AF3D4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FB72-D6CE-48C3-B56D-F69F0C91C4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99D3-34B4-4812-87D7-49D76AE830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44DA-0714-42E8-A974-7EF74F133E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974D-1E15-4395-9124-7F184CDF6B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4305-B87F-4777-8123-70E1579B96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99EB-321E-403E-ACB6-5576AF3635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B995-DD24-426C-98C3-2E8719BE66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4772-4834-4CBC-A725-3927B17A8E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538B-58EB-4FD2-801E-CE87A43F76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5AEA-C32D-47DD-A1E0-6B10D2A3CC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AED9-6C8F-48F6-B01F-55C95FE60A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65C7-69C9-4AF9-9828-E172059014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9F5A-7FA6-46DF-93E3-A18146A376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778B-1015-48EB-8400-C48342AE8B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EDDF-D157-428D-AD55-D1D6FC8F97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CCBF-773E-47D0-B638-4DCED62EC3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4724-4471-4556-8880-B716B30635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D242-8898-4D23-98E4-989F9EF752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8E29-7B73-4250-8D0E-E63CF99D6A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35E7-B473-48C8-8729-FB815573AA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7656-065D-4F7A-9BC7-DE5FBF82A0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AC11-08EC-4932-9B3B-F2668A971D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F8B7-8DB4-495A-A507-B58E19E7DD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F2CA-326D-4CD4-8D69-E2B769881F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54E7-9B3A-4527-B4CD-B392DAA322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324-23EB-42D5-A22B-049142CD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EA85-7433-4BBE-B979-13DC7CA1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E1FD-2C61-45A5-9493-1255263B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20AE-1B69-4BC1-B311-7E690371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0EA-F797-49FC-B9C6-665A0AE0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339B-A482-4277-BB43-B28CCA0C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46D8-C06D-4D71-8F21-F3FA9B0F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C45-7310-4C28-92B6-90B58B4D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AA1-C159-4CBC-A3D7-3C0FD95A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BA1-CC4C-4493-9188-ECF24B7D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64DC-466D-467F-A1A1-370DA669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8BEF-BDE5-40A7-BF83-A9DA5319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E5F8-894F-42AC-9BAD-B7FA4830031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5th%20Grader%20Shor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17.xml"/><Relationship Id="rId10" Type="http://schemas.openxmlformats.org/officeDocument/2006/relationships/slide" Target="slide19.xml"/><Relationship Id="rId11" Type="http://schemas.openxmlformats.org/officeDocument/2006/relationships/slide" Target="slide21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slide" Target="slide2.xml"/><Relationship Id="rId21" Type="http://schemas.openxmlformats.org/officeDocument/2006/relationships/slide" Target="slide2.xml"/><Relationship Id="rId22" Type="http://schemas.openxmlformats.org/officeDocument/2006/relationships/slide" Target="slide2.xml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5th%20Grader%20Shor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5thGrader"/>
          <p:cNvPicPr/>
          <p:nvPr/>
        </p:nvPicPr>
        <p:blipFill>
          <a:blip r:embed="rId1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lly saw “that the day was going to be a scorcher” and decided to get water for any soldier who needed it during the hot day of fight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conclusion can you draw about Molly Pitcher based off her actions during the battle in the selectio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he was a brave woman who did what she felt was necessary to help the men fight against the British.  She believed strongly in the fight for independence from Britai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did the author write this selection about Molly Pitch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author wanted to show you how one person can affect important events in history and the ways women helped in the Revolutionary wa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were Molly Pitcher’s acts of bravery similar to Paul Revere’s acts of bravery when he warned the Patriots that the British were comin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both believed in the fight for independence and acted bravely to fight for what they believed i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does retreat mean on page 335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withdraw from batt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does revolution mean on page 330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500"/>
            </a:gs>
            <a:gs pos="50000">
              <a:srgbClr val="408000"/>
            </a:gs>
            <a:gs pos="100000">
              <a:srgbClr val="03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Topic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5th Grade Topic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4th Grade Topic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4th Grade Topic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rd Grade Topic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3rd Grade Topic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2nd Grade Topic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2nd Grade Topic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1st Grade Topic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5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st Grade Topic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9">
            <a:hlinkClick r:id="rId21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2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ang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ich event was occurring at Christmas of 1777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Battle at Valley Forg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e Level 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is Molly Pitcher an important person to history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he brought water to the soldiers during battle and joined in the battl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5thGrader"/>
          <p:cNvPicPr/>
          <p:nvPr/>
        </p:nvPicPr>
        <p:blipFill>
          <a:blip r:embed="rId1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was it surprising for George Washington to see Molly Pitcher firing a canno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omen didn’t typically fight in the battles at that tim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generalization can be made about women during the Revolutionary War based off this story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omen followed their husbands to battle and helped in the war by bringing water to the men while they fought.  Some even fought in battle like Molly Pitche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ccording the story, what did George Washington do to recognize Molly Pitcher’s acts of bravery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gave her the ranking of sergeant in the Continental Army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did Molly Pitcher go back and forth to the stream to get water for the soldier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ltrolio</cp:lastModifiedBy>
  <dcterms:modified xsi:type="dcterms:W3CDTF">2012-02-29T23:03:14Z</dcterms:modified>
  <cp:revision>23</cp:revision>
  <dc:subject/>
  <dc:title>Are You Smarter  Than a 5th Grader?</dc:title>
</cp:coreProperties>
</file>